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517-5677-4F33-8D25-EF35A0B2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85C-27E0-477E-B3C3-353206C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C1F-459C-4A64-B674-B9258748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FDA-FB5D-46EB-B5FE-D422894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C23-1A2C-47B9-9E0F-037BB54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D42-BB3E-46AF-ABA5-ED5E830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5B0-886C-484D-A603-1F9EB51C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5BD-194F-45FC-9AD1-F647509A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860-47F2-4ABB-B3CF-7B13C7E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72E-5297-4D45-8CBD-1FF4AC7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BA5-AC6F-4EA2-BB49-B51FE1F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E28-4258-4146-8F3E-945D3B1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23A-F072-49EA-AFBA-0B41FC5C7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P3M Uni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hould I stu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nthrosocphyc"/>
          <p:cNvPicPr/>
          <p:nvPr/>
        </p:nvPicPr>
        <p:blipFill>
          <a:blip r:embed="rId1"/>
          <a:stretch/>
        </p:blipFill>
        <p:spPr>
          <a:xfrm>
            <a:off x="3809880" y="2057400"/>
            <a:ext cx="1451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opology – the study or the origin, the behaviour, the physical, social, and cultural development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anthropology"/>
          <p:cNvPicPr/>
          <p:nvPr/>
        </p:nvPicPr>
        <p:blipFill>
          <a:blip r:embed="rId1"/>
          <a:stretch/>
        </p:blipFill>
        <p:spPr>
          <a:xfrm>
            <a:off x="4648320" y="2998800"/>
            <a:ext cx="38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 – the study of human social behaviour and the institutions and organizations that form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ociology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 – the study of mental processes and human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Psychology4a"/>
          <p:cNvPicPr/>
          <p:nvPr/>
        </p:nvPicPr>
        <p:blipFill>
          <a:blip r:embed="rId1"/>
          <a:stretch/>
        </p:blipFill>
        <p:spPr>
          <a:xfrm>
            <a:off x="4943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ative vs. Qualit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, WHERE,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and more focused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nd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2:13:56Z</dcterms:created>
  <dc:creator>Mark Harris</dc:creator>
  <dc:description/>
  <dc:language>en-US</dc:language>
  <cp:lastModifiedBy>OCDSB User</cp:lastModifiedBy>
  <dcterms:modified xsi:type="dcterms:W3CDTF">2012-08-30T18:28:19Z</dcterms:modified>
  <cp:revision>26</cp:revision>
  <dc:subject/>
  <dc:title>HSP3M Unit 1</dc:title>
</cp:coreProperties>
</file>